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6.wmf" ContentType="image/x-wmf"/>
  <Override PartName="/ppt/media/image36.wmf" ContentType="image/x-wmf"/>
  <Override PartName="/ppt/media/image45.wmf" ContentType="image/x-wmf"/>
  <Override PartName="/ppt/media/image46.wmf" ContentType="image/x-wmf"/>
  <Override PartName="/ppt/media/image26.png" ContentType="image/png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720" y="382104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128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244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3452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72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244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3452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90720" y="26665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16256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720" y="26665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128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90720" y="382104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128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1244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3452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9072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1244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3452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16256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128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57360" y="616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629400" y="63961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5 - </a:t>
            </a:r>
            <a:fld id="{A7164F15-CE50-4074-AECC-1EBC0F2A54B8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63961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5 - </a:t>
            </a:r>
            <a:fld id="{66D87550-87A1-4AE5-847B-EE2327135616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2.wmf"/><Relationship Id="rId14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5.wmf"/><Relationship Id="rId8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5.wmf"/><Relationship Id="rId8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9.wmf"/><Relationship Id="rId16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6.wmf"/><Relationship Id="rId16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6.wmf"/><Relationship Id="rId14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1.wmf"/><Relationship Id="rId16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1.wmf"/><Relationship Id="rId16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6.wmf"/><Relationship Id="rId16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6.wmf"/><Relationship Id="rId16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9.wmf"/><Relationship Id="rId16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7.wmf"/><Relationship Id="rId8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7.wmf"/><Relationship Id="rId8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8.wmf"/><Relationship Id="rId8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8.wmf"/><Relationship Id="rId8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9.wmf"/><Relationship Id="rId8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9.wmf"/><Relationship Id="rId8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3.wmf"/><Relationship Id="rId1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3.wmf"/><Relationship Id="rId14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6.wmf"/><Relationship Id="rId12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6.wmf"/><Relationship Id="rId12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8.wmf"/><Relationship Id="rId1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8.wmf"/><Relationship Id="rId14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2.wmf"/><Relationship Id="rId1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52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Active Learning Lecture Sl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For use with Classroom Respons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640080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© 2009 Pearson Education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828800"/>
            <a:ext cx="36576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Arial"/>
              </a:rPr>
              <a:t>Chapter 5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Arial"/>
              </a:rPr>
              <a:t>Exponential and Logarithmic Func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57600" y="1227240"/>
            <a:ext cx="4434120" cy="55544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23880" y="1522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a formula for the inverse of the functio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2136600" y="1735200"/>
          <a:ext cx="2268720" cy="961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36600" y="1735200"/>
                    <a:ext cx="22687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2057400" y="2743200"/>
          <a:ext cx="251784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57400" y="2743200"/>
                    <a:ext cx="251784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2057400" y="4038480"/>
          <a:ext cx="2424240" cy="621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57400" y="4038480"/>
                    <a:ext cx="24242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1981080" y="4876920"/>
          <a:ext cx="2300400" cy="961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81080" y="4876920"/>
                    <a:ext cx="230040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1371600" y="19810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of the following functions is one-to-o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33520" y="40384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1143000" y="12952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1143000" y="40384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5029200" y="13716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5029200" y="41911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of the following functions is one-to-o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533520" y="40384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1143000" y="12952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1143000" y="40384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5029200" y="13716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4191120" y="137160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5"/>
          <a:stretch/>
        </p:blipFill>
        <p:spPr>
          <a:xfrm>
            <a:off x="5029200" y="41911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of the following graphs illustrates the graph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4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33520" y="40384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1295280" y="1295280"/>
            <a:ext cx="2438640" cy="24386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4876920" y="12952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4952880" y="4038480"/>
            <a:ext cx="2438640" cy="24386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5"/>
          <a:stretch/>
        </p:blipFill>
        <p:spPr>
          <a:xfrm>
            <a:off x="1295280" y="411480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of the following graphs illustrates the graph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4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33520" y="40384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295280" y="1295280"/>
            <a:ext cx="2438640" cy="24386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4876920" y="12952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4952880" y="4038480"/>
            <a:ext cx="2438640" cy="24386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5"/>
          <a:stretch/>
        </p:blipFill>
        <p:spPr>
          <a:xfrm>
            <a:off x="1295280" y="411480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33520" y="137160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of the following graphs illustrates the graph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–2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533520" y="40384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4800600" y="41911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1143000" y="1447920"/>
            <a:ext cx="2508120" cy="25081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4724280" y="144792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5"/>
          <a:stretch/>
        </p:blipFill>
        <p:spPr>
          <a:xfrm>
            <a:off x="1143000" y="41911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523880" y="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of the following graphs illustrates the graph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–2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33520" y="40384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4800600" y="41911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1143000" y="1447920"/>
            <a:ext cx="2508120" cy="25081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4724280" y="144792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1143000" y="41911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4114800" y="40384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523880" y="1522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approximate value of 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0.1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o four decimal plac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–1.17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0.85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–0.852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1.016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23880" y="1522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approximate value of 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–0.1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o four decimal plac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–1.17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0.85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–0.852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1.016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1371600" y="41148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523880" y="152280"/>
            <a:ext cx="762012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the compound interest formul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the approximate amount in the account after 5 years if the investment is $1500 at an interest rate of 8.2% compounded quarter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371600" y="25909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$2195.6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371600" y="42163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$2260.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371600" y="340344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$2250.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37160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$2271.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7039080" y="-76320"/>
          <a:ext cx="2028600" cy="1014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39080" y="-76320"/>
                    <a:ext cx="202860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HA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TER 5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Exponential and 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Logarithmic Function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520" y="243828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1  Inverse Func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2  Exponential Functions and Graph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3  Logarithmic Functions and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4  Properties of Logarithmic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5  Solving Exponential and Logarithmic Equ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6  Applications and Models: Growth and Decay;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u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48320" y="6026040"/>
            <a:ext cx="684000" cy="831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523880" y="152280"/>
            <a:ext cx="762012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the compound interest formul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the approximate amount in the account after 5 years if the investment is $1500 at an interest rate of 8.2% compounded quarter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371600" y="25909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$2195.6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371600" y="42163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$2260.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371600" y="340344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$2250.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37160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$2271.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7039080" y="-76320"/>
          <a:ext cx="2028600" cy="1014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39080" y="-76320"/>
                    <a:ext cx="202860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1308240" y="346716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523880" y="152280"/>
            <a:ext cx="7620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a school deposited a $1000 scholarship in an account paying 7.9% interest compounded quarterly. Approximately how much will the scholarship be worth in two years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0" y="31687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$1169.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371600" y="47941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$1268.7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371600" y="39816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$1250.9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371600" y="56070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$1316.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523880" y="152280"/>
            <a:ext cx="7620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a school deposited a $1000 scholarship in an account paying 7.9% interest compounded quarterly. Approximately how much will the scholarship be worth in two years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71600" y="31687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$1169.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1371600" y="47941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$1268.7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71600" y="39816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$1250.9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371600" y="56070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$1316.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>
            <a:off x="1295280" y="33210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23880" y="1522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t to a logarithmic equation:       2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20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447920" y="2178000"/>
            <a:ext cx="5486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1447920" y="4311720"/>
            <a:ext cx="6553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2 = lo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4792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log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447920" y="5378400"/>
            <a:ext cx="7010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523880" y="1522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t to a logarithmic equation:       2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20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447920" y="2254320"/>
            <a:ext cx="5486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1447920" y="4387680"/>
            <a:ext cx="6553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2 = lo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447920" y="3321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log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447920" y="5454720"/>
            <a:ext cx="7010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"/>
          <p:cNvSpPr/>
          <p:nvPr/>
        </p:nvSpPr>
        <p:spPr>
          <a:xfrm>
            <a:off x="1371600" y="24066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523880" y="152280"/>
            <a:ext cx="7620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t to an exponential equation:      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47920" y="2178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5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44792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47920" y="53784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523880" y="152280"/>
            <a:ext cx="7620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t to an exponential equation:      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47920" y="22543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5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1447920" y="4387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47920" y="3321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47920" y="5454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"/>
          <p:cNvSpPr/>
          <p:nvPr/>
        </p:nvSpPr>
        <p:spPr>
          <a:xfrm>
            <a:off x="1371600" y="33973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23880" y="1522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ln 3 using a calculator. Round to four decimal place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447920" y="2178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0.477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20.085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1.0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447920" y="53784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1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523880" y="1522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ln 3 using a calculator. Round to four decimal place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447920" y="2178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0.477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1447920" y="4311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20.085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47920" y="3244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1.0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447920" y="53784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1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"/>
          <p:cNvSpPr/>
          <p:nvPr/>
        </p:nvSpPr>
        <p:spPr>
          <a:xfrm>
            <a:off x="1371600" y="33210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log 0.001. Do not use a calculator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–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3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–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1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inverse of the re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919160" y="1905120"/>
          <a:ext cx="4538880" cy="620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19160" y="1905120"/>
                    <a:ext cx="453888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995480" y="762120"/>
          <a:ext cx="4911840" cy="620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95480" y="762120"/>
                    <a:ext cx="49118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995480" y="2895480"/>
          <a:ext cx="4538520" cy="621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95480" y="2895480"/>
                    <a:ext cx="453852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919160" y="3962520"/>
          <a:ext cx="4818240" cy="620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19160" y="3962520"/>
                    <a:ext cx="4818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843200" y="4800600"/>
          <a:ext cx="5751360" cy="1117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843200" y="4800600"/>
                    <a:ext cx="575136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log 0.001. Do not use a calculator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–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3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–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1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"/>
          <p:cNvSpPr/>
          <p:nvPr/>
        </p:nvSpPr>
        <p:spPr>
          <a:xfrm>
            <a:off x="1371600" y="29718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523880" y="152280"/>
            <a:ext cx="7620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 using the change-of-base formul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447920" y="2101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 0.20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1447920" y="42354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1.29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31687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  0.77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447920" y="5302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  1.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1981080" y="2330280"/>
          <a:ext cx="311400" cy="311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330280"/>
                    <a:ext cx="311400" cy="3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1981080" y="3321000"/>
          <a:ext cx="311400" cy="311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81080" y="3321000"/>
                    <a:ext cx="31140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5" name=""/>
          <p:cNvGraphicFramePr/>
          <p:nvPr/>
        </p:nvGraphicFramePr>
        <p:xfrm>
          <a:off x="1981080" y="4464000"/>
          <a:ext cx="311400" cy="311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81080" y="4464000"/>
                    <a:ext cx="31140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7" name=""/>
          <p:cNvGraphicFramePr/>
          <p:nvPr/>
        </p:nvGraphicFramePr>
        <p:xfrm>
          <a:off x="2057400" y="5530680"/>
          <a:ext cx="311040" cy="3114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057400" y="5530680"/>
                    <a:ext cx="311040" cy="3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523880" y="152280"/>
            <a:ext cx="7620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 using the change-of-base formul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447920" y="2101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 0.20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1447920" y="42354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 1.29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447920" y="31687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  0.77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447920" y="5302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 1.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>
            <a:off x="1447920" y="438768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1981080" y="2330280"/>
          <a:ext cx="311400" cy="311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2330280"/>
                    <a:ext cx="311400" cy="3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1981080" y="3397320"/>
          <a:ext cx="311400" cy="311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3397320"/>
                    <a:ext cx="31140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"/>
          <p:cNvGraphicFramePr/>
          <p:nvPr/>
        </p:nvGraphicFramePr>
        <p:xfrm>
          <a:off x="2044800" y="4438800"/>
          <a:ext cx="311040" cy="311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44800" y="4438800"/>
                    <a:ext cx="31104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"/>
          <p:cNvGraphicFramePr/>
          <p:nvPr/>
        </p:nvGraphicFramePr>
        <p:xfrm>
          <a:off x="1981080" y="5530680"/>
          <a:ext cx="311400" cy="311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81080" y="5530680"/>
                    <a:ext cx="311400" cy="3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523880" y="152280"/>
            <a:ext cx="7620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ress in terms of sum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fferences of logarith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447920" y="2286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1447920" y="4419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447920" y="3352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447920" y="54864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6502320" y="723960"/>
          <a:ext cx="1435320" cy="1212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02320" y="723960"/>
                    <a:ext cx="143532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"/>
          <p:cNvGraphicFramePr/>
          <p:nvPr/>
        </p:nvGraphicFramePr>
        <p:xfrm>
          <a:off x="1981080" y="2133720"/>
          <a:ext cx="2519640" cy="990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133720"/>
                    <a:ext cx="251964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2057400" y="3505320"/>
          <a:ext cx="2390760" cy="511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57400" y="3505320"/>
                    <a:ext cx="239076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1981080" y="4343400"/>
          <a:ext cx="2519640" cy="990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81080" y="4343400"/>
                    <a:ext cx="25196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"/>
          <p:cNvGraphicFramePr/>
          <p:nvPr/>
        </p:nvGraphicFramePr>
        <p:xfrm>
          <a:off x="1981080" y="5334120"/>
          <a:ext cx="2233800" cy="990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981080" y="5334120"/>
                    <a:ext cx="22338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523880" y="152280"/>
            <a:ext cx="7620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ress in terms of sum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fferences of logarith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447920" y="2286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1447920" y="4419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447920" y="3352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447920" y="54864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1" name=""/>
          <p:cNvGraphicFramePr/>
          <p:nvPr/>
        </p:nvGraphicFramePr>
        <p:xfrm>
          <a:off x="6502320" y="723960"/>
          <a:ext cx="1435320" cy="1212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02320" y="723960"/>
                    <a:ext cx="143532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3" name=""/>
          <p:cNvGraphicFramePr/>
          <p:nvPr/>
        </p:nvGraphicFramePr>
        <p:xfrm>
          <a:off x="1981080" y="2133720"/>
          <a:ext cx="2519640" cy="990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133720"/>
                    <a:ext cx="251964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5" name=""/>
          <p:cNvGraphicFramePr/>
          <p:nvPr/>
        </p:nvGraphicFramePr>
        <p:xfrm>
          <a:off x="2057400" y="3505320"/>
          <a:ext cx="2390760" cy="511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57400" y="3505320"/>
                    <a:ext cx="239076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7" name=""/>
          <p:cNvGraphicFramePr/>
          <p:nvPr/>
        </p:nvGraphicFramePr>
        <p:xfrm>
          <a:off x="1981080" y="4343400"/>
          <a:ext cx="2519640" cy="990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81080" y="4343400"/>
                    <a:ext cx="25196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9" name=""/>
          <p:cNvGraphicFramePr/>
          <p:nvPr/>
        </p:nvGraphicFramePr>
        <p:xfrm>
          <a:off x="1981080" y="5334120"/>
          <a:ext cx="2233800" cy="990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981080" y="5334120"/>
                    <a:ext cx="22338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1" name=""/>
          <p:cNvSpPr/>
          <p:nvPr/>
        </p:nvSpPr>
        <p:spPr>
          <a:xfrm>
            <a:off x="1371600" y="45720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523880" y="152280"/>
            <a:ext cx="7620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ress in terms of sum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fferences of logarith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447920" y="2209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1447920" y="43434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447920" y="32767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44792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3" name=""/>
          <p:cNvGraphicFramePr/>
          <p:nvPr/>
        </p:nvGraphicFramePr>
        <p:xfrm>
          <a:off x="6527880" y="952560"/>
          <a:ext cx="1530360" cy="701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27880" y="952560"/>
                    <a:ext cx="1530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"/>
          <p:cNvGraphicFramePr/>
          <p:nvPr/>
        </p:nvGraphicFramePr>
        <p:xfrm>
          <a:off x="2057400" y="2133720"/>
          <a:ext cx="2232000" cy="990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7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57400" y="2133720"/>
                    <a:ext cx="22320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7" name=""/>
          <p:cNvGraphicFramePr/>
          <p:nvPr/>
        </p:nvGraphicFramePr>
        <p:xfrm>
          <a:off x="2025720" y="3189240"/>
          <a:ext cx="2454120" cy="990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7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25720" y="3189240"/>
                    <a:ext cx="2454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9" name=""/>
          <p:cNvGraphicFramePr/>
          <p:nvPr/>
        </p:nvGraphicFramePr>
        <p:xfrm>
          <a:off x="1965240" y="4505400"/>
          <a:ext cx="2551320" cy="512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65240" y="4505400"/>
                    <a:ext cx="255132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1" name=""/>
          <p:cNvGraphicFramePr/>
          <p:nvPr/>
        </p:nvGraphicFramePr>
        <p:xfrm>
          <a:off x="1981080" y="5257800"/>
          <a:ext cx="2521080" cy="990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981080" y="5257800"/>
                    <a:ext cx="25210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523880" y="152280"/>
            <a:ext cx="7620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ress in terms of sum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fferences of logarith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447920" y="2209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1447920" y="43434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447920" y="32767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44792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" name=""/>
          <p:cNvGraphicFramePr/>
          <p:nvPr/>
        </p:nvGraphicFramePr>
        <p:xfrm>
          <a:off x="6527880" y="952560"/>
          <a:ext cx="1530360" cy="701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27880" y="952560"/>
                    <a:ext cx="1530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6" name=""/>
          <p:cNvGraphicFramePr/>
          <p:nvPr/>
        </p:nvGraphicFramePr>
        <p:xfrm>
          <a:off x="2057400" y="2133720"/>
          <a:ext cx="2232000" cy="990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57400" y="2133720"/>
                    <a:ext cx="22320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" name=""/>
          <p:cNvGraphicFramePr/>
          <p:nvPr/>
        </p:nvGraphicFramePr>
        <p:xfrm>
          <a:off x="2025720" y="3189240"/>
          <a:ext cx="2454120" cy="990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25720" y="3189240"/>
                    <a:ext cx="2454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1965240" y="4505400"/>
          <a:ext cx="2551320" cy="512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65240" y="4505400"/>
                    <a:ext cx="255132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" name=""/>
          <p:cNvGraphicFramePr/>
          <p:nvPr/>
        </p:nvGraphicFramePr>
        <p:xfrm>
          <a:off x="1981080" y="5257800"/>
          <a:ext cx="2521080" cy="990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0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981080" y="5257800"/>
                    <a:ext cx="25210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4" name=""/>
          <p:cNvSpPr/>
          <p:nvPr/>
        </p:nvSpPr>
        <p:spPr>
          <a:xfrm>
            <a:off x="1447920" y="548640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523880" y="152280"/>
            <a:ext cx="76201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n that lo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= 0.3333 and               lo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 = 1.1950, find lo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447920" y="2101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3.585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1447920" y="42354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0.86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447920" y="31687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0.999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447920" y="5302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0.195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523880" y="152280"/>
            <a:ext cx="76201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n that lo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= 0.3333 and               lo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 = 1.1950, find lo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447920" y="2101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3.585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1447920" y="42354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0.86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447920" y="31687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0.999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447920" y="5302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0.195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7" name=""/>
          <p:cNvSpPr/>
          <p:nvPr/>
        </p:nvSpPr>
        <p:spPr>
          <a:xfrm>
            <a:off x="1371600" y="43117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523880" y="152280"/>
            <a:ext cx="76201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n that lo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= 0.6826 and               lo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 = 0.8614, find lo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447920" y="2101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0.401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1447920" y="42354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2.226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447920" y="31687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1.17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447920" y="5302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4.63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inverse of the re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919160" y="1905120"/>
          <a:ext cx="4538880" cy="620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19160" y="1905120"/>
                    <a:ext cx="453888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995480" y="762120"/>
          <a:ext cx="4911840" cy="620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95480" y="762120"/>
                    <a:ext cx="49118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995480" y="2895480"/>
          <a:ext cx="4538520" cy="621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95480" y="2895480"/>
                    <a:ext cx="453852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919160" y="3962520"/>
          <a:ext cx="4818240" cy="620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19160" y="3962520"/>
                    <a:ext cx="4818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843200" y="4800600"/>
          <a:ext cx="5751360" cy="1117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843200" y="4800600"/>
                    <a:ext cx="575136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371600" y="41148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523880" y="152280"/>
            <a:ext cx="76201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n that lo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= 0.6826 and               lo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 = 0.8614, find lo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447920" y="2101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0.401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1447920" y="42354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2.226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447920" y="31687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1.17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447920" y="5302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4.63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"/>
          <p:cNvSpPr/>
          <p:nvPr/>
        </p:nvSpPr>
        <p:spPr>
          <a:xfrm>
            <a:off x="1371600" y="43117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ify: ln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6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–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ify: ln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6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–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"/>
          <p:cNvSpPr/>
          <p:nvPr/>
        </p:nvSpPr>
        <p:spPr>
          <a:xfrm>
            <a:off x="1371600" y="41148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523880" y="152280"/>
            <a:ext cx="7620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6) –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6) =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Does not ex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1981080" y="3809880"/>
          <a:ext cx="622440" cy="963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3809880"/>
                    <a:ext cx="62244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523880" y="152280"/>
            <a:ext cx="7620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6) –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6) =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Does not ex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6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8" name=""/>
          <p:cNvGraphicFramePr/>
          <p:nvPr/>
        </p:nvGraphicFramePr>
        <p:xfrm>
          <a:off x="1981080" y="3809880"/>
          <a:ext cx="622440" cy="963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3809880"/>
                    <a:ext cx="62244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"/>
          <p:cNvSpPr/>
          <p:nvPr/>
        </p:nvSpPr>
        <p:spPr>
          <a:xfrm>
            <a:off x="1384200" y="29718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523880" y="152280"/>
            <a:ext cx="7620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5) +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) = 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2" name=""/>
          <p:cNvGraphicFramePr/>
          <p:nvPr/>
        </p:nvGraphicFramePr>
        <p:xfrm>
          <a:off x="1981080" y="1600200"/>
          <a:ext cx="341280" cy="963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1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1600200"/>
                    <a:ext cx="34128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23880" y="152280"/>
            <a:ext cx="7620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5) +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) = 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1981080" y="1600200"/>
          <a:ext cx="341280" cy="963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2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1600200"/>
                    <a:ext cx="34128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7" name=""/>
          <p:cNvSpPr/>
          <p:nvPr/>
        </p:nvSpPr>
        <p:spPr>
          <a:xfrm>
            <a:off x="1371600" y="29718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523880" y="152280"/>
            <a:ext cx="7620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3) +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0) = 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No 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9" name=""/>
          <p:cNvGraphicFramePr/>
          <p:nvPr/>
        </p:nvGraphicFramePr>
        <p:xfrm>
          <a:off x="1981080" y="3886200"/>
          <a:ext cx="560520" cy="963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4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3886200"/>
                    <a:ext cx="56052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523880" y="152280"/>
            <a:ext cx="7620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3) +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0) = 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No 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2" name=""/>
          <p:cNvGraphicFramePr/>
          <p:nvPr/>
        </p:nvGraphicFramePr>
        <p:xfrm>
          <a:off x="1981080" y="3886200"/>
          <a:ext cx="560520" cy="963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3886200"/>
                    <a:ext cx="56052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4" name=""/>
          <p:cNvSpPr/>
          <p:nvPr/>
        </p:nvSpPr>
        <p:spPr>
          <a:xfrm>
            <a:off x="1371600" y="29718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5+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32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759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6" name=""/>
          <p:cNvGraphicFramePr/>
          <p:nvPr/>
        </p:nvGraphicFramePr>
        <p:xfrm>
          <a:off x="1981080" y="4952880"/>
          <a:ext cx="528840" cy="963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6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4952880"/>
                    <a:ext cx="52884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8" name=""/>
          <p:cNvGraphicFramePr/>
          <p:nvPr/>
        </p:nvGraphicFramePr>
        <p:xfrm>
          <a:off x="1981080" y="3886200"/>
          <a:ext cx="528840" cy="963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6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3886200"/>
                    <a:ext cx="52884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0" name=""/>
          <p:cNvGraphicFramePr/>
          <p:nvPr/>
        </p:nvGraphicFramePr>
        <p:xfrm>
          <a:off x="2057400" y="1676520"/>
          <a:ext cx="372960" cy="963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57400" y="1676520"/>
                    <a:ext cx="372960" cy="96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2" name=""/>
          <p:cNvGraphicFramePr/>
          <p:nvPr/>
        </p:nvGraphicFramePr>
        <p:xfrm>
          <a:off x="2057400" y="2819520"/>
          <a:ext cx="496800" cy="963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057400" y="2819520"/>
                    <a:ext cx="496800" cy="96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inverse of the re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843200" y="1905120"/>
          <a:ext cx="4849560" cy="620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43200" y="1905120"/>
                    <a:ext cx="48495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103480" y="762120"/>
          <a:ext cx="4694040" cy="620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03480" y="762120"/>
                    <a:ext cx="46940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041560" y="5029200"/>
          <a:ext cx="4600440" cy="620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41560" y="5029200"/>
                    <a:ext cx="46004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995480" y="4038480"/>
          <a:ext cx="4849920" cy="621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95480" y="4038480"/>
                    <a:ext cx="484992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1919160" y="2666880"/>
          <a:ext cx="5659560" cy="11178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919160" y="2666880"/>
                    <a:ext cx="565956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5+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32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778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5" name=""/>
          <p:cNvGraphicFramePr/>
          <p:nvPr/>
        </p:nvGraphicFramePr>
        <p:xfrm>
          <a:off x="1981080" y="4952880"/>
          <a:ext cx="528840" cy="963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8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4952880"/>
                    <a:ext cx="52884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7" name=""/>
          <p:cNvGraphicFramePr/>
          <p:nvPr/>
        </p:nvGraphicFramePr>
        <p:xfrm>
          <a:off x="1981080" y="3886200"/>
          <a:ext cx="528840" cy="963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8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3886200"/>
                    <a:ext cx="52884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9" name=""/>
          <p:cNvGraphicFramePr/>
          <p:nvPr/>
        </p:nvGraphicFramePr>
        <p:xfrm>
          <a:off x="2057400" y="1676520"/>
          <a:ext cx="372960" cy="963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9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57400" y="1676520"/>
                    <a:ext cx="372960" cy="96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1" name=""/>
          <p:cNvGraphicFramePr/>
          <p:nvPr/>
        </p:nvGraphicFramePr>
        <p:xfrm>
          <a:off x="2057400" y="2819520"/>
          <a:ext cx="496800" cy="963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9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057400" y="2819520"/>
                    <a:ext cx="496800" cy="96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3" name=""/>
          <p:cNvSpPr/>
          <p:nvPr/>
        </p:nvSpPr>
        <p:spPr>
          <a:xfrm>
            <a:off x="1447920" y="5105520"/>
            <a:ext cx="53316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5+4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9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–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"/>
          <p:cNvGraphicFramePr/>
          <p:nvPr/>
        </p:nvGraphicFramePr>
        <p:xfrm>
          <a:off x="1981080" y="1676520"/>
          <a:ext cx="622440" cy="963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0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1676520"/>
                    <a:ext cx="622440" cy="96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7" name=""/>
          <p:cNvGraphicFramePr/>
          <p:nvPr/>
        </p:nvGraphicFramePr>
        <p:xfrm>
          <a:off x="2057400" y="3809880"/>
          <a:ext cx="341280" cy="963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57400" y="3809880"/>
                    <a:ext cx="34128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9" name=""/>
          <p:cNvGraphicFramePr/>
          <p:nvPr/>
        </p:nvGraphicFramePr>
        <p:xfrm>
          <a:off x="1949400" y="4952880"/>
          <a:ext cx="588960" cy="963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49400" y="4952880"/>
                    <a:ext cx="58896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5+4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9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–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2" name=""/>
          <p:cNvGraphicFramePr/>
          <p:nvPr/>
        </p:nvGraphicFramePr>
        <p:xfrm>
          <a:off x="1981080" y="1676520"/>
          <a:ext cx="622440" cy="963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2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1676520"/>
                    <a:ext cx="622440" cy="96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4" name=""/>
          <p:cNvGraphicFramePr/>
          <p:nvPr/>
        </p:nvGraphicFramePr>
        <p:xfrm>
          <a:off x="2057400" y="3809880"/>
          <a:ext cx="341280" cy="963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2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57400" y="3809880"/>
                    <a:ext cx="34128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6" name=""/>
          <p:cNvGraphicFramePr/>
          <p:nvPr/>
        </p:nvGraphicFramePr>
        <p:xfrm>
          <a:off x="1949400" y="4952880"/>
          <a:ext cx="588960" cy="963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2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49400" y="4952880"/>
                    <a:ext cx="58896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8" name=""/>
          <p:cNvSpPr/>
          <p:nvPr/>
        </p:nvSpPr>
        <p:spPr>
          <a:xfrm>
            <a:off x="1371600" y="19810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523880" y="15228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opulation of a city doubled in 12 years. What was the approximate exponential growth ra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447920" y="25588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16.7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833" name=""/>
          <p:cNvSpPr/>
          <p:nvPr/>
        </p:nvSpPr>
        <p:spPr>
          <a:xfrm>
            <a:off x="1447920" y="44895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5.8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447920" y="35244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6.0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447920" y="5454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2.48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6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3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523880" y="15228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opulation of a city doubled in 12 years. What was the approximate exponential growth ra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447920" y="25588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16.7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844" name=""/>
          <p:cNvSpPr/>
          <p:nvPr/>
        </p:nvSpPr>
        <p:spPr>
          <a:xfrm>
            <a:off x="1447920" y="44895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5.8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447920" y="35244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6.0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447920" y="5454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2.48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1" name=""/>
          <p:cNvSpPr/>
          <p:nvPr/>
        </p:nvSpPr>
        <p:spPr>
          <a:xfrm>
            <a:off x="1371600" y="46162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523880" y="15228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opulation of a city doubled in 10 years. What was the approximate exponential growth ra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1447920" y="25588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3.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856" name=""/>
          <p:cNvSpPr/>
          <p:nvPr/>
        </p:nvSpPr>
        <p:spPr>
          <a:xfrm>
            <a:off x="1447920" y="44895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6.9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447920" y="35244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5.0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447920" y="5454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14.4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523880" y="15228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opulation of a city doubled in 10 years. What was the approximate exponential growth ra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447920" y="25588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3.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867" name=""/>
          <p:cNvSpPr/>
          <p:nvPr/>
        </p:nvSpPr>
        <p:spPr>
          <a:xfrm>
            <a:off x="1447920" y="44895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6.9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447920" y="35244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5.0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447920" y="5454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14.4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4" name=""/>
          <p:cNvSpPr/>
          <p:nvPr/>
        </p:nvSpPr>
        <p:spPr>
          <a:xfrm>
            <a:off x="1371600" y="46162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1523880" y="15228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$2000 is invested at interest rat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ompounded continuously, and grows to $2,473.53 in 5 years. Find the approximate interest 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447920" y="27874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3.83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879" name=""/>
          <p:cNvSpPr/>
          <p:nvPr/>
        </p:nvSpPr>
        <p:spPr>
          <a:xfrm>
            <a:off x="1447920" y="47181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4.7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1447920" y="3753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4.25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7.89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523880" y="15228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$2000 is invested at interest rat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ompounded continuously, and grows to $2.473.53 in 5 years. Find the approximate interest 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447920" y="27874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3.83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890" name=""/>
          <p:cNvSpPr/>
          <p:nvPr/>
        </p:nvSpPr>
        <p:spPr>
          <a:xfrm>
            <a:off x="1447920" y="47181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4.7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447920" y="3753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4.25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7.89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7" name=""/>
          <p:cNvSpPr/>
          <p:nvPr/>
        </p:nvSpPr>
        <p:spPr>
          <a:xfrm>
            <a:off x="1371600" y="38545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523880" y="15228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$2000 is invested at interest rat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ompounded continuously, and grows to $2.473.53 in 5 years. Find the approximate doubling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447920" y="27874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7.1 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902" name=""/>
          <p:cNvSpPr/>
          <p:nvPr/>
        </p:nvSpPr>
        <p:spPr>
          <a:xfrm>
            <a:off x="1447920" y="47181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16.3 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447920" y="3753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14.6 yea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21.1 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inverse of the re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1843200" y="1905120"/>
          <a:ext cx="4849560" cy="620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43200" y="1905120"/>
                    <a:ext cx="48495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2103480" y="762120"/>
          <a:ext cx="4694040" cy="620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03480" y="762120"/>
                    <a:ext cx="46940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2041560" y="5029200"/>
          <a:ext cx="4600440" cy="620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41560" y="5029200"/>
                    <a:ext cx="46004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995480" y="4038480"/>
          <a:ext cx="4849920" cy="621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95480" y="4038480"/>
                    <a:ext cx="484992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919160" y="2666880"/>
          <a:ext cx="5659560" cy="11178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919160" y="2666880"/>
                    <a:ext cx="565956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1422360" y="511812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523880" y="15228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$2000 is invested at interest rat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ompounded continuously, and grows to $2.473.53 in 5 years. Find the approximate doubling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447920" y="27874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7.1 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913" name=""/>
          <p:cNvSpPr/>
          <p:nvPr/>
        </p:nvSpPr>
        <p:spPr>
          <a:xfrm>
            <a:off x="1447920" y="47181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16.3 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447920" y="3753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14.6 yea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21.1 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6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0" name=""/>
          <p:cNvSpPr/>
          <p:nvPr/>
        </p:nvSpPr>
        <p:spPr>
          <a:xfrm>
            <a:off x="1371600" y="48448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523880" y="15228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$8000 is invested at interest rat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ompounded continuously, and grows to $10,962.07 in 5 years. Approximate the amount in the account after 10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447920" y="27115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$13,924.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925" name=""/>
          <p:cNvSpPr/>
          <p:nvPr/>
        </p:nvSpPr>
        <p:spPr>
          <a:xfrm>
            <a:off x="1447920" y="4565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$15,020.8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1447920" y="360036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$14,259.2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$15,664.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523880" y="15228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$8000 is invested at interest rat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ompounded continuously, and grows to $10,962.07 in 5 years. Approximate the amount in the account after 10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447920" y="27115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$13,924.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1447920" y="4565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$15,020.8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447920" y="360036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$14,259.2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447920" y="5530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$15,664.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3" name=""/>
          <p:cNvSpPr/>
          <p:nvPr/>
        </p:nvSpPr>
        <p:spPr>
          <a:xfrm>
            <a:off x="1371600" y="46926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23880" y="1522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a formula for the inverse of the functio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10 – 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1981080" y="1905120"/>
          <a:ext cx="2579760" cy="620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1905120"/>
                    <a:ext cx="25797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981080" y="2743200"/>
          <a:ext cx="230040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230040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1905120" y="3809880"/>
          <a:ext cx="2455920" cy="962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05120" y="3809880"/>
                    <a:ext cx="245592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1981080" y="4876920"/>
          <a:ext cx="2268720" cy="961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81080" y="4876920"/>
                    <a:ext cx="22687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23880" y="1522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a formula for the inverse of the functio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10 – 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981080" y="1905120"/>
          <a:ext cx="2579760" cy="620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1905120"/>
                    <a:ext cx="25797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981080" y="2743200"/>
          <a:ext cx="230040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230040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905120" y="3809880"/>
          <a:ext cx="2455920" cy="962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05120" y="3809880"/>
                    <a:ext cx="245592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981080" y="4876920"/>
          <a:ext cx="2268720" cy="961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81080" y="4876920"/>
                    <a:ext cx="22687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1371600" y="41148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1522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a formula for the inverse of the functio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2136600" y="1735200"/>
          <a:ext cx="2268720" cy="961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36600" y="1735200"/>
                    <a:ext cx="22687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2057400" y="2743200"/>
          <a:ext cx="251784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57400" y="2743200"/>
                    <a:ext cx="251784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2057400" y="4038480"/>
          <a:ext cx="2424240" cy="621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57400" y="4038480"/>
                    <a:ext cx="24242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1981080" y="4876920"/>
          <a:ext cx="2300400" cy="961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81080" y="4876920"/>
                    <a:ext cx="230040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0:59Z</dcterms:created>
  <dc:creator>Addison Wesley</dc:creator>
  <dc:description/>
  <cp:keywords/>
  <dc:language>en-US</dc:language>
  <cp:lastModifiedBy>Jennifer Thomas</cp:lastModifiedBy>
  <dcterms:modified xsi:type="dcterms:W3CDTF">2008-05-28T13:36:12Z</dcterms:modified>
  <cp:revision>213</cp:revision>
  <dc:subject/>
  <dc:title>No Slide Title</dc:title>
</cp:coreProperties>
</file>